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169-827F-44CB-9736-3EFC01CE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376-D98D-478C-9F36-DE67CA4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345-2B78-46AE-A7C3-422F9E3D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595-16BA-4466-9D90-38757C61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521-B446-4B3F-9894-86FA83FE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A5E-04C8-4143-98AA-8D7704A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F44-6BE0-4DFC-B6BD-2103E66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9B5-1279-4A33-B63E-876E274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F6D-036A-4592-963C-839871C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5C6-68A3-4DDB-8E15-607CE91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4B5-3024-4C18-9D64-BE97B14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93D-7059-47DE-A725-2E288A3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4B12-3C5F-4229-B8C5-1DB2D7B27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gateway.org/" TargetMode="External"/><Relationship Id="rId3" Type="http://schemas.openxmlformats.org/officeDocument/2006/relationships/hyperlink" Target="http://ali.apple.com/ali/resources.shtml" TargetMode="External"/><Relationship Id="rId4" Type="http://schemas.openxmlformats.org/officeDocument/2006/relationships/hyperlink" Target="http://www.ideas.wisconsin.edu/" TargetMode="External"/><Relationship Id="rId5" Type="http://schemas.openxmlformats.org/officeDocument/2006/relationships/hyperlink" Target="http://www2.dpi.state.wi.us/sig/practices/high_2.asp" TargetMode="External"/><Relationship Id="rId6" Type="http://schemas.openxmlformats.org/officeDocument/2006/relationships/hyperlink" Target="http://wisc-online.com/" TargetMode="External"/><Relationship Id="rId7" Type="http://schemas.openxmlformats.org/officeDocument/2006/relationships/hyperlink" Target="http://www.merlot.org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38088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nd"/>
                <a:ea typeface="Times New Roman"/>
              </a:rPr>
              <a:t>Learning Obj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and"/>
                <a:ea typeface="Times New Roman"/>
              </a:rPr>
              <a:t>to Enrich Your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57200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san Cramer -- UW Oshk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02716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380880"/>
            <a:ext cx="38098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Learning Object Coll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 to Educational Materials (GEM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2"/>
              </a:rPr>
              <a:t>http://www.thegateway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’s Learning Interchange (ALI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3"/>
              </a:rPr>
              <a:t>http://ali.apple.com/ali/resourc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4"/>
              </a:rPr>
              <a:t>http://www.ideas.wisconsin.edu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consin's Information Network for Successful Schools (WINS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Arial"/>
                <a:hlinkClick r:id="rId5"/>
              </a:rPr>
              <a:t>http://www2.dpi.state.wi.us/sig/practices/high_2.as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consin Online Resource Center (Wisc-Online),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6"/>
              </a:rPr>
              <a:t>http://wisc-online.com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edia Educational Resource for Learning and Online Teaching (MERLOT) </a:t>
            </a:r>
            <a:r>
              <a:rPr b="0" lang="en-US" sz="1200" spc="-1" strike="noStrike" u="sng">
                <a:solidFill>
                  <a:srgbClr val="091c99"/>
                </a:solidFill>
                <a:uFillTx/>
                <a:latin typeface="Times New Roman"/>
                <a:hlinkClick r:id="rId7"/>
              </a:rPr>
              <a:t>http://www.merlot.org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brary of Congress (LOC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loc.gov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Wisconsin Digital Collection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uwdc.library.wisc.edu/collectio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Books - author programs/movies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eachingbooks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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S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nasa.gov/home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 field trip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uen.org/utahlink/tour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gle and other search eng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4880" y="5334120"/>
            <a:ext cx="29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enou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in tim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just for you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57800" y="380880"/>
            <a:ext cx="36576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  <a:ea typeface="Times New Roman"/>
              </a:rPr>
              <a:t>What are learning objec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Sand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al materials found on the Internet that can be used to illustrate, support, supplement or assess student lear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mall in siz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in duration, (2-15 minutes in lengt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take on a variety of different shapes, formats, and purpo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and"/>
              </a:rPr>
              <a:t>But, what they find in schools is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380880"/>
            <a:ext cx="3844800" cy="5730840"/>
            <a:chOff x="228600" y="380880"/>
            <a:chExt cx="3844800" cy="5730840"/>
          </a:xfrm>
        </p:grpSpPr>
        <p:sp>
          <p:nvSpPr>
            <p:cNvPr id="49" name=""/>
            <p:cNvSpPr/>
            <p:nvPr/>
          </p:nvSpPr>
          <p:spPr>
            <a:xfrm>
              <a:off x="228600" y="380880"/>
              <a:ext cx="380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How do students use and want to use technolog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" y="914400"/>
              <a:ext cx="281952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y use the Internet as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rtual textbook and reference library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rtual tutor and study shortcu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study group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guidance counselor,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8120" indent="-16812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rtual locker-backpack-notebook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95480"/>
              <a:ext cx="35812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164520" indent="-164520"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ucational use of the Internet is most likely to occur outside of the school without direction of teacher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4520" indent="-164520">
                <a:spcBef>
                  <a:spcPts val="30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hen teachers do integrate the Internet into schoolwork, the quality of the assignment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nds to be poor and uninspiring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4520" indent="-164520">
                <a:spcBef>
                  <a:spcPts val="799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, use of the Internet is not required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r use in homework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2917800" y="990720"/>
              <a:ext cx="977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3200400" y="3352680"/>
              <a:ext cx="873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4800600"/>
              <a:ext cx="3276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What can we do differently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and"/>
                </a:rPr>
                <a:t>Use learning ob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66880" y="5105520"/>
              <a:ext cx="1341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267160" y="2209680"/>
            <a:ext cx="387684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ngle picture -- an illustration of the water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video clip  -- a bee pollinating a flo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articles-- discussing immigration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data -- analyzed to illustrate immigration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son accounts -- digitized diary e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-- meio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 field trips -- the world is your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torials --grammar and mathema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thread to all these instructional materi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upport student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vailable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in a variety of contex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by multiple people in multiple location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ccessed over and over without time or location constrai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the understanding of a concept o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resented to an entire class but their true power comes when individual students access the materials to support their current learning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7:06:35Z</dcterms:created>
  <dc:creator>College of Education &amp; Human Services</dc:creator>
  <dc:description/>
  <dc:language>en-US</dc:language>
  <cp:lastModifiedBy>College of Education &amp; Human Services</cp:lastModifiedBy>
  <cp:lastPrinted>2006-03-01T18:14:59Z</cp:lastPrinted>
  <dcterms:modified xsi:type="dcterms:W3CDTF">2006-03-08T14:35:10Z</dcterms:modified>
  <cp:revision>13</cp:revision>
  <dc:subject/>
  <dc:title>PowerPoint Presentation</dc:title>
</cp:coreProperties>
</file>